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7C7F-8E75-4729-945F-5B1F5C4C9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6B6D-B865-4EDC-B8B9-6F5BA72A7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6C46-C51E-4A1E-8F8B-8508822E5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6F43-964D-464D-90FB-C5F4ACDB3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DC37-00D0-4827-B957-E3EC77A45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A6FE-4F15-4B06-A577-E3B426AC6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B348-4FD0-426C-AAD7-F03D33C9E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4031-6FA4-4CE4-BC78-3C4DBA812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DEDC-6588-412B-9826-2A8D5A27B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44A6-0224-4827-9435-337F1B43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BFF7-8689-43D2-B097-4F14799D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8FFA-6C9F-4B35-AF0C-3370F10D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3B86F-D685-47CE-9CC5-FEC11DC33C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next.wav" TargetMode="External"/><Relationship Id="rId2" Type="http://schemas.microsoft.com/office/2007/relationships/media" Target="file:///tmp/home/.config/libreoffice/4/user/gallery/next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First-Order Theor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 Communicat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-Order Formul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nest Dav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York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75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3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Moore, Halpern et al., Levesq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world ≡ temporal situation ≡ a possible way the world could be at an inst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_acc(A,SA,SB) – As far as A knows in SA, the world could be S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knows φ in S – Every SA accessible from S satisfies 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54255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knowledge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 knows in s0 that X is on 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all(SA) k_acc(sam,s0,SA) =&gt; holds(SA,on(x,y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 knows in s0 that no one knows who killed J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all(SA) k_acc(sam,s0,SA) =&gt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exists(A1,A2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all(SB) k_acc(A1,SA,SB)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s(SB1,SB2) SB2 &lt; SB ^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do(A2,kill(jr)),SB1,SB2)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83508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red knowle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1 and A2 have shared knowledge of φ if they each know φ, they know that the other one know it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_acc(A1,A2,SA,SB) – SB is accessible from SA relative to the shared knowledge of A1,A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itive closure of k_acc(A1..), k_acc(A2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33503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guage of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(AS,communicate(AH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(AS,inform(AH,Q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 is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eneralized fluent 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property of situ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100155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tells Sam that X is on 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do(john,inform(sam,on(x,y))),s0,s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tells Sam that there is a red block on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s(Q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forall(S) holds(S,Q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s(X) red(X) ^ block(X) ^holds(S,on(X,y))] ^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do(john,inform(sam,Q)),s0,s1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6112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tells Sam who killed J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s(Q,AK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forall(S) holds(S,Q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s(S3,S4) S4&lt;S ^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(do(AK,kill(jr)), S3,S4)] ^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(do(john,inform(sam,Q)),s0,s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27002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ce tells Bob he has never told her anything she didn’t already kn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s(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forall(S) holds(S,Q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forall(Q1,S2,S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occurs(do(bob,inform(alice,Q1)),S2,S3)^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3 &lt; S] =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forall(S2A) k_acc(alice,S2,S2A) 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ds(S2A,Q1)]] ^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rs(do(alice,inform(bob,Q)),s0,s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52058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xioms of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ehension axiom: There is a fluent for every property of situ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S) is any formula, 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ists(Q) holds(S,Q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f AS can communicate with AH, then AS can tell AH anything AS kno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asible(do(AS,communicate(AH)),S)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[feasible(do(AS,inform(AH,Q)),S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[forall(SA) k_acc(AS,S,SA) =&gt; holds(SA,Q)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47707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xioms of communication, cnt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S informs AH of Q, then they have shared knowledge that AS has informed AH of Q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occurs(do(AS,inform(AH,Q)),S1,S2) ^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_acc(AS,AH,S2,S2A)] =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s(S1A) occurs(do(AS,inform(AH,Q)),S1A,S2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" dur="975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xioms of communication, cnt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S and AH have shared knowledge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the act of AS informing AH that Q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me as the act of informing AH that Q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do(AS,inform(AH,Q)),S1,S2)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occurs(do(AS,inform(AH,Q1)),S1,S2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all(S1A) sk_acc(AS,AH,S1,S1A)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holds(S1A,Q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olds(S1A,Q)]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82417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apologies for not being able to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s to: NSF for fu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ora Morgenstern for id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y-Anne Williams and Stu Shapi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helping with this pres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7752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dox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S tells AH something which is false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ime that AS finishes speaking, then 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isl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 end sit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enar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 tells Bob that the light is on, while turning it o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tells Bob that Bob is mis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" dur="73508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lution of paradox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radox relies on the unique-names assumption that we have rejec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has not only informed Bob that B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misled. He has also informed Bob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is misled and this is the 1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situation”, which is certainly misle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72368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expected han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judge tells a prisoner: You will be h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noon within the next 30 days, but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not know that morning that you will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ng that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am alive on the morning of the 3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y, I will know I will be hung that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they must hang me no later than the 2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if I am alive on the morning of the 2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y, I will know I will be hung that day.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46449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olution to Unexpected Hang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presentation of wha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il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ppen, only what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ca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ppen.  And the judg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coul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to tell him that he will be hung on the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no possible worlds structure in which the judge knows that his declaration is true whatever he (judge) chooses to s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" dur="61406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istency Pro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we be sure that the next paradox won’t clobber 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ency theorem: The axioms of knowledge and communication are consistent with just about any reasonable physical theory over discrete time, satisfying certain complex but non-restrictive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3" dur="56334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ted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genstern (1988): Syntactic theory of knowledge and commun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hen and Perrault: BDI the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logic (Plaza, 1989; van Benthem 2003) – Communication as dynamic modal ope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dek et al. (1997): Modal operators B(P), I(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PA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64756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-valued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(A,Q) – Function from fluent to flu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ning (Davis and Morgenstern, in prep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utionary 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5" dur="7331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soning about Knowledg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Communi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 knows it will be sunny July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ommon knowledge that, if it is sun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Bob can play tenn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 can communicate with Bo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r: Sam knows that there is something 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do that will cause Bob to know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ill be able to play tennis on July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8754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8754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3000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tells Alice that he has cheated on 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ce answers that Bob has never told 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thing she didn’t already k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r: Bob now knows that Alice already knew before he spoke that he had cheated on 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650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anguage that can describe time, action,  knowledge, and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cal power of first-order log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for bo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scrib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munication and for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t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commun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30253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ibutions of this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irst-order language of time, action, knowledge, and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communication about past, present, and future; knowledge and ignorance; other communic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heory that supports inferences such as the two starting examp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ably consistent with a wide range of causal theo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41254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1254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300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of time, action, and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and axiom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do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ency pro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ed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43004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3004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3000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 and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ime structure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screte, branching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has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arting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cDermott’s temporal log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a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1 &lt; S2 – Situation S1 precedes S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ds(S,Q) – Fluent Q holds in situation 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E,S1,S2) – Action E occurs 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al [S1,S2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sible(E,S)  -- Action E is feasible in situation 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45004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Causal La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(do(A,puton(X,Y)),S1,S2) =&gt;               holds(S2,on(X,Y)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is feasible in S iff E occurs over [S,S1] where S1 follows S on some bran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asible(E,S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s(S1) occurs(E,S,S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29503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5T21:45:34Z</dcterms:created>
  <dc:creator>davise</dc:creator>
  <dc:description/>
  <dc:language>en-US</dc:language>
  <cp:lastModifiedBy>davise</cp:lastModifiedBy>
  <dcterms:modified xsi:type="dcterms:W3CDTF">2004-05-26T16:31:07Z</dcterms:modified>
  <cp:revision>6</cp:revision>
  <dc:subject/>
  <dc:title>A First-Order Theory of Communicating First-Order Formulas</dc:title>
</cp:coreProperties>
</file>